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24C3-061A-4ADE-8F41-23B1CA6DFD80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B25A-DEFC-42B7-AB92-6E2393F1275C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4D28-ABF7-40A3-882F-7B71A3A85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F741-E03F-4517-87A3-E9DBCF77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DAE62-2EFF-44AD-9361-DC21140D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6B649-40AE-4807-9DBB-BAD01552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50004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F3BC7C-A650-4E36-872B-6213D976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D915D-B9DE-4FD1-BAF7-60593215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B8A51-C8D9-4386-AE7B-5ECB3B8E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998F18-3AA3-4A65-B7DB-80A6E0CC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FA7E08-D63B-4C61-B9EB-FD876AB2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59B90F-4F10-468D-B305-AE0E4B809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C4F46-2ED7-44B3-A33F-7118C8AB7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A790B5-F920-4088-B6CF-E01F7161C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36A0-5256-482E-B334-061F643F1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2CB07-C8C3-4DD1-8C37-553E5700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F8F6A2-921A-4287-B5A3-D769E884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D53E20-D875-4761-8960-75549EE4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F482AF-AD59-4243-BCCE-54BF1784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50004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50045A-BAC7-479A-91F1-EAD21CD9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F71BD-5753-41F2-BFDC-BE433AF6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D44CBA-B988-440D-886E-EFB2B287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84D4EA-48C2-4A6E-9F18-691DB7A7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93AA8E-4DC4-467B-8566-36787A79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632BF5-1B17-43B7-818A-FA113FA8B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BFC7-D9B8-407D-BB1E-3F4E8D003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270906-E10D-444F-9AD3-976A115B7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BAC5C8-449A-4E80-9FD4-405E1C062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3DB30-312E-4177-9869-4196282D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C85D9-D9AD-48D7-BF9B-812587BA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C4410-B8A7-492D-91E6-3314E87B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8B88D-BA5A-46FD-B520-81D2C87D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50004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2A279-E4F0-458B-83B2-B51A4901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BE987-24AA-429B-8D71-FE73F530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85482-79DD-4B74-90AC-73C16386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9B463-1BDC-4494-A91B-C3D72E7F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5B39-6CC9-491C-BA3B-83DA88DF2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3A6FA-91DC-4480-8623-C7955FE0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8443C-DFC8-4ADB-B255-28A4FBA71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53731-1D36-4009-9C10-BE9BD6559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9E0D0B-83D4-446E-96B8-CDBF73192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F3EBFF-3F5F-42CC-8C55-30FC291C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47A86A-FC89-4EA5-87A3-B02CBCB8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42C85D-7422-41EC-8BC2-FCE0D243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69F250-E0BD-4B31-8F5C-8727DE60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0004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CF8A56-14D8-4545-A63E-10E6CFB9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0D4B32-0F9A-412B-BDE2-850C7435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4419-6DC4-4531-8960-40027DCE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A738A1-FDB0-4A2F-B31E-DDCE372E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22288F-918F-4EB0-A58A-F408463E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C176E0-86D3-46B9-9AB6-FA7366F9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BB8502-828B-49B9-87FA-3B3494457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CDC5AE-C8FB-429A-8639-F84D69ECD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D35C-BA27-4C94-9BFB-7A41C9B4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7FA9-42CE-4E88-85EB-40D50323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B61B-AFA5-4794-BD57-156D447C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004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AB00-FEFD-4BF6-89E5-72C4D1BF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C2A2-F75A-4546-B435-8B697B63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43EC-1306-41BA-8A4D-60B3D3C4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D9E0-D350-4403-9767-F0F444E4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C702-995D-40F3-BC23-84302EF1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5C86-1D2C-4ED0-B3EA-E2B227A3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1B2C-7304-4097-A6FA-BEB445ED0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BC8E-09A4-4884-9F71-CBFF45EE4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0A5BE-242F-4D75-8FCE-E0700486A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D0459-6231-48DA-9EA1-085E9D9B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6491F-BD01-4704-A3BD-250D57EE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093BE-8A2F-4860-92AC-43E7F532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8F370-25A3-4199-AAFB-198AAA16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9934-742D-4A8C-AA1D-79DB3F3B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004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5C2F4-0650-4B24-B4B2-29DC4B37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8340B-D117-44F2-89DA-1235C5E6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D4EF8-312D-451D-A54D-4F29E349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E39A2-55D4-4DE8-974D-51FB8832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F568B-4E41-49DD-B07E-B4C877AD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0EB3F-7DC4-49A4-9D91-43E82489C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606C0-2540-487F-B81E-040498E94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3A081-0BD0-437E-B37A-9D6A6C6EE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4C345-B08D-4A91-A517-C0F0B2CA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01B24-31BD-409B-984A-1B09E9F0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CE40-3C32-48BF-B203-5B035A99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86182-B0E1-4316-A872-5D0851CC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5950D-A64F-401D-923A-AFE243B4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50004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29833-F0AB-4427-BF79-31521D88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84F6B-D63D-4D91-B47C-0E5C68D9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65F1C-0380-4CA1-9114-2EA9C496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E66D8-722A-4A37-B8FD-27483AFE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F81F4-A6C4-48A7-9C03-4982B77C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30824-0C1B-4E71-8334-80FAD44B4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54351-CE35-489B-8800-583A855FE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0409F-84CC-4488-B88B-50AC9816C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4EE1-FE01-45A4-8223-748D33FE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542B5-5215-4B8B-9EB9-FA661C08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D89ED-5ECF-4CD6-BF01-2752F6A9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D19D3-5ACD-471F-918A-1DF66DEB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CFE97-A3A8-4AC0-86D6-F7AE5857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004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40818-B74F-484A-BFEB-2DC78529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43819-A905-46F4-93C2-7C0FE515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F6B5F-D870-4975-B463-543423AD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B1E24-7143-4569-B77D-C91E3D6F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E2A9E-41B0-4E67-BAB4-8FC3BDA5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26284-6E07-4005-890C-D88E90F22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004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F2B3-E6D3-4EA1-A7EC-086A112E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0407D-14ED-4016-9DC7-8BFBD1961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8EA69-77F4-46F4-B0D1-2E718BCB3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C3EDD-C112-41D0-B61F-AE5CD18C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D9CF8-6D11-4F00-8FC4-85A4D73F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FAAF3-FC13-4D8A-80DA-9F6CBBA3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9A96D-9B5F-4EE9-808E-0131C8C5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50004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79B6E-4EDD-4EB4-B68F-71E35200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E2D51-2658-4598-9A25-46C11FEF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E5072-A799-4B32-8B37-4312FD90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474CF-BEAE-4C26-80CF-4DD62229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B68A-53B7-46AC-80A1-F787915B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9F447-370B-487D-8887-8D3A031B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CC66D-4A02-4951-A1F3-ADE9A66DA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A89B7-C5B2-40E1-9966-CDBCDDB09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850A9-27E5-401F-BCEB-F16B82E04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6B594-624E-4396-9009-B38C99C2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66F41-5E0C-40E9-B2F6-5A9E65E2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F863F-AF0F-47B8-8628-3097FF24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92C4C-0918-4EFE-A857-203A216F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50004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5F030-5D3A-4A40-8274-5534F3D0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FB118-6095-4E94-B208-D53C1319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4FFA-AFE5-4FD8-8FCA-ADD91E44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548FB-7800-4072-85D6-2B508B2F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75EB4-4D43-4289-A160-5618BA20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7BC29-3C30-4EA8-AEE9-4CAA7580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20BE9-AF71-4EF5-8765-6536B99A8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1DFF4-BCC9-4DA4-9021-D0C8A621D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E1775-2F7D-476D-BFCB-95C0732D4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74155-4BB9-471E-A0D4-29363657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C8131-C3F1-4D5E-A0F5-774D607B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1B95F-EE45-462B-AEEE-720FB7B6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8DEC5-F5B6-4FC5-9D2D-C18C5A93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9E9F-2A5C-47AA-9329-589CD1B1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50004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95729-6E83-4D7B-A59D-0101EB4B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0D628-6B9E-4966-99CE-395924CF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A7155-680B-4575-B1A1-67EFCE8B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2B504-B960-40A2-86AB-602351FA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3FA8A-3685-465E-ACC4-39A279D0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7FFC5-BEDD-4947-907A-42C15982F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A34E4-64A5-45B4-9DC7-AE1C64F57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2D4ED0-1BDE-48C3-A183-37FBACCCD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3D712-F9D6-4B35-9DA7-BACB89B0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1B5B5F-95EA-42D4-A30E-B5E6B172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m 6" descr="biquinis-variados-32-206.jpg"/>
          <p:cNvPicPr/>
          <p:nvPr/>
        </p:nvPicPr>
        <p:blipFill>
          <a:blip r:embed="rId3"/>
          <a:stretch/>
        </p:blipFill>
        <p:spPr>
          <a:xfrm>
            <a:off x="480960" y="1481040"/>
            <a:ext cx="8394840" cy="4608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28760" y="-360"/>
            <a:ext cx="81439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2840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45AB-5E24-4C4A-B122-C19E13811545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Imagem 6" descr="biquinis-variados-32-206.jpg"/>
          <p:cNvPicPr/>
          <p:nvPr/>
        </p:nvPicPr>
        <p:blipFill>
          <a:blip r:embed="rId3"/>
          <a:stretch/>
        </p:blipFill>
        <p:spPr>
          <a:xfrm>
            <a:off x="480960" y="1481040"/>
            <a:ext cx="8394840" cy="460872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28760" y="-360"/>
            <a:ext cx="81439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42840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C58A-88CC-4280-BDFC-708D2D4FF32C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Imagem 6" descr="biquinis-variados-32-206.jpg"/>
          <p:cNvPicPr/>
          <p:nvPr/>
        </p:nvPicPr>
        <p:blipFill>
          <a:blip r:embed="rId3"/>
          <a:stretch/>
        </p:blipFill>
        <p:spPr>
          <a:xfrm>
            <a:off x="480960" y="1481040"/>
            <a:ext cx="8394840" cy="460872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28760" y="-360"/>
            <a:ext cx="81439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42840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DBDA-79E0-43AA-9425-B8843F46F0DB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Imagem 6" descr="biquinis-variados-32-206.jpg"/>
          <p:cNvPicPr/>
          <p:nvPr/>
        </p:nvPicPr>
        <p:blipFill>
          <a:blip r:embed="rId3"/>
          <a:stretch/>
        </p:blipFill>
        <p:spPr>
          <a:xfrm>
            <a:off x="480960" y="1481040"/>
            <a:ext cx="8394840" cy="460872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28760" y="-360"/>
            <a:ext cx="81439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42840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B94A-975D-4C77-8A2C-70F4282DBBD7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m 6" descr="biquinis-variados-32-206.jpg"/>
          <p:cNvPicPr/>
          <p:nvPr/>
        </p:nvPicPr>
        <p:blipFill>
          <a:blip r:embed="rId3"/>
          <a:stretch/>
        </p:blipFill>
        <p:spPr>
          <a:xfrm>
            <a:off x="480960" y="1481040"/>
            <a:ext cx="8394840" cy="4608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28760" y="-360"/>
            <a:ext cx="81439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2840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5462-5F6F-4C16-BC24-1299032AD46E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m 6" descr="biquinis-variados-32-206.jpg"/>
          <p:cNvPicPr/>
          <p:nvPr/>
        </p:nvPicPr>
        <p:blipFill>
          <a:blip r:embed="rId3"/>
          <a:stretch/>
        </p:blipFill>
        <p:spPr>
          <a:xfrm>
            <a:off x="480960" y="1481040"/>
            <a:ext cx="8394840" cy="46087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28760" y="-360"/>
            <a:ext cx="81439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42840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787E-F020-4AF8-91ED-D663A706031C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Imagem 6" descr="biquinis-variados-32-206.jpg"/>
          <p:cNvPicPr/>
          <p:nvPr/>
        </p:nvPicPr>
        <p:blipFill>
          <a:blip r:embed="rId3"/>
          <a:stretch/>
        </p:blipFill>
        <p:spPr>
          <a:xfrm>
            <a:off x="480960" y="1481040"/>
            <a:ext cx="8394840" cy="46087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28760" y="-360"/>
            <a:ext cx="81439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42840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87BF-6F84-47B7-A0D4-F924A41C22E3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Imagem 6" descr="biquinis-variados-32-206.jpg"/>
          <p:cNvPicPr/>
          <p:nvPr/>
        </p:nvPicPr>
        <p:blipFill>
          <a:blip r:embed="rId3"/>
          <a:stretch/>
        </p:blipFill>
        <p:spPr>
          <a:xfrm>
            <a:off x="480960" y="1481040"/>
            <a:ext cx="8394840" cy="46087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28760" y="-360"/>
            <a:ext cx="81439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42840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798B-A18D-49CC-B98D-EC2BCF9F4F2D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Imagem 6" descr="biquinis-variados-32-206.jpg"/>
          <p:cNvPicPr/>
          <p:nvPr/>
        </p:nvPicPr>
        <p:blipFill>
          <a:blip r:embed="rId3"/>
          <a:stretch/>
        </p:blipFill>
        <p:spPr>
          <a:xfrm>
            <a:off x="480960" y="1481040"/>
            <a:ext cx="8394840" cy="46087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28760" y="-360"/>
            <a:ext cx="81439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42840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7790-2382-4B1E-9096-1203E0C7BF13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Imagem 6" descr="biquinis-variados-32-206.jpg"/>
          <p:cNvPicPr/>
          <p:nvPr/>
        </p:nvPicPr>
        <p:blipFill>
          <a:blip r:embed="rId3"/>
          <a:stretch/>
        </p:blipFill>
        <p:spPr>
          <a:xfrm>
            <a:off x="480960" y="1481040"/>
            <a:ext cx="8394840" cy="460872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28760" y="-360"/>
            <a:ext cx="81439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42840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3A22-C6A2-4985-BD84-8EDE0400BA06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Imagem 6" descr="biquinis-variados-32-206.jpg"/>
          <p:cNvPicPr/>
          <p:nvPr/>
        </p:nvPicPr>
        <p:blipFill>
          <a:blip r:embed="rId3"/>
          <a:stretch/>
        </p:blipFill>
        <p:spPr>
          <a:xfrm>
            <a:off x="480960" y="1481040"/>
            <a:ext cx="8394840" cy="460872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28760" y="-360"/>
            <a:ext cx="81439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42840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DA64-3901-4005-B8C5-0D71BBA86745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Imagem 6" descr="biquinis-variados-32-206.jpg"/>
          <p:cNvPicPr/>
          <p:nvPr/>
        </p:nvPicPr>
        <p:blipFill>
          <a:blip r:embed="rId3"/>
          <a:stretch/>
        </p:blipFill>
        <p:spPr>
          <a:xfrm>
            <a:off x="480960" y="1481040"/>
            <a:ext cx="8394840" cy="46087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28760" y="-360"/>
            <a:ext cx="81439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42840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0848-678E-4472-828A-9F54E7454137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e75c01"/>
                </a:solidFill>
                <a:latin typeface="Calibri"/>
              </a:rPr>
              <a:t>Introdução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Foi-nos proposto a  realização de um trabalho no módulo 679 que consiste em elaborar o balanço soci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Com a criação de uma empresa de lingerie onde  aplicamos os conhecimentos adquirido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Marcador de Posição da Data 3"/>
          <p:cNvSpPr/>
          <p:nvPr/>
        </p:nvSpPr>
        <p:spPr>
          <a:xfrm>
            <a:off x="428760" y="0"/>
            <a:ext cx="8143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Marcador de Posição do Rodapé 4"/>
          <p:cNvSpPr/>
          <p:nvPr/>
        </p:nvSpPr>
        <p:spPr>
          <a:xfrm>
            <a:off x="42876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AFDD-CD60-4544-85D1-C0C3EB35E528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e75c01"/>
                </a:solidFill>
                <a:latin typeface="Calibri"/>
              </a:rPr>
              <a:t>Empresa CR9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Fundada em 06/01/2008 com o capital social de 15.000.000€, com a finalidade de produzir e exportar lingerie / fatos de banho – uni sexo, com a intenção de se sentir mais sedutor(a) e ter uma aparência na época de Verão deslumbrant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Marcador de Posição da Data 3"/>
          <p:cNvSpPr/>
          <p:nvPr/>
        </p:nvSpPr>
        <p:spPr>
          <a:xfrm>
            <a:off x="428760" y="0"/>
            <a:ext cx="8143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Marcador de Posição do Rodapé 5"/>
          <p:cNvSpPr/>
          <p:nvPr/>
        </p:nvSpPr>
        <p:spPr>
          <a:xfrm>
            <a:off x="42876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Marcador de Posição do Número do Diapositivo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282B-D834-4649-9F0F-28065FDE229D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e75c01"/>
                </a:solidFill>
                <a:latin typeface="Calibri"/>
              </a:rPr>
              <a:t>Empresa CR9</a:t>
            </a:r>
            <a:endParaRPr b="1" lang="en-US" sz="40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Esta empresa faz parceria com o famoso Cristiano Ronaldo daí a nossa marca ter as iniciais de CR9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Vamos promover a nossa campanha de lingiere/ fatos de banho a nível mundial, criando novos modelos, feitios, cores e padrõ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Marcador de Posição da Data 3"/>
          <p:cNvSpPr/>
          <p:nvPr/>
        </p:nvSpPr>
        <p:spPr>
          <a:xfrm>
            <a:off x="428760" y="0"/>
            <a:ext cx="8143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Marcador de Posição do Rodapé 4"/>
          <p:cNvSpPr/>
          <p:nvPr/>
        </p:nvSpPr>
        <p:spPr>
          <a:xfrm>
            <a:off x="42876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63DD-3E9B-402B-B5A3-43DD5A50EC1F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428760" y="428760"/>
            <a:ext cx="40384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600" spc="-1" strike="noStrike" u="sng">
                <a:solidFill>
                  <a:srgbClr val="000000"/>
                </a:solidFill>
                <a:uFillTx/>
                <a:latin typeface="Calibri"/>
              </a:rPr>
              <a:t>A empresa tem 360 funcionários repartidos por várias secções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Administrativos-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Contabilidade-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Secretárias -1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Estilistas-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Costureiras-6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Recursos humanos-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Manequins-10 M/20 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ublicidade-9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428720" y="500040"/>
            <a:ext cx="44290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Refeitorio-1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Limpeza-1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Assistência médica-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Aconselhamento jurídico-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Trabalhadores estudantes-2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restação de serviços -16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(manutenção, condutores, embaladores, stocks, entre outros serviço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600" spc="-1" strike="noStrike" u="sng">
                <a:solidFill>
                  <a:srgbClr val="000000"/>
                </a:solidFill>
                <a:uFillTx/>
                <a:latin typeface="Calibri"/>
              </a:rPr>
              <a:t>   </a:t>
            </a:r>
            <a:r>
              <a:rPr b="1" i="1" lang="pt-PT" sz="2600" spc="-1" strike="noStrike" u="sng">
                <a:solidFill>
                  <a:srgbClr val="000000"/>
                </a:solidFill>
                <a:uFillTx/>
                <a:latin typeface="Calibri"/>
              </a:rPr>
              <a:t>No total dos 360 funcionários estão 116 efectivo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Marcador de Posição da Data 3"/>
          <p:cNvSpPr/>
          <p:nvPr/>
        </p:nvSpPr>
        <p:spPr>
          <a:xfrm>
            <a:off x="428760" y="0"/>
            <a:ext cx="8143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Marcador de Posição do Rodapé 4"/>
          <p:cNvSpPr/>
          <p:nvPr/>
        </p:nvSpPr>
        <p:spPr>
          <a:xfrm>
            <a:off x="42876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63E3-7213-4BDF-BF1A-20902337D141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e75c01"/>
                </a:solidFill>
                <a:latin typeface="Calibri"/>
              </a:rPr>
              <a:t>Empresa CR9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532" name="Marcador de Posição da Data 4"/>
          <p:cNvSpPr/>
          <p:nvPr/>
        </p:nvSpPr>
        <p:spPr>
          <a:xfrm>
            <a:off x="428760" y="0"/>
            <a:ext cx="8143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Marcador de Posição do Rodapé 5"/>
          <p:cNvSpPr/>
          <p:nvPr/>
        </p:nvSpPr>
        <p:spPr>
          <a:xfrm>
            <a:off x="42876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Marcador de Posição do Número do Diapositivo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6B9E-D0A3-4C65-80B3-8CBE463DF96A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Marcador de Posição de Conteúdo 9" descr=""/>
          <p:cNvPicPr/>
          <p:nvPr/>
        </p:nvPicPr>
        <p:blipFill>
          <a:blip r:embed="rId1"/>
          <a:stretch/>
        </p:blipFill>
        <p:spPr>
          <a:xfrm>
            <a:off x="500040" y="1214280"/>
            <a:ext cx="835812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e75c01"/>
                </a:solidFill>
                <a:latin typeface="Calibri"/>
              </a:rPr>
              <a:t>Empresa CR9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Esta empresa CR9 tem sucursais em Paris, Londres, New Iorque, Canada, Bélgica, Brasil, Cuba e Madei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Marcador de Posição da Data 3"/>
          <p:cNvSpPr/>
          <p:nvPr/>
        </p:nvSpPr>
        <p:spPr>
          <a:xfrm>
            <a:off x="428760" y="0"/>
            <a:ext cx="8143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Marcador de Posição do Rodapé 4"/>
          <p:cNvSpPr/>
          <p:nvPr/>
        </p:nvSpPr>
        <p:spPr>
          <a:xfrm>
            <a:off x="42876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F9E3-EDD0-4AE9-91BD-468D2237EB5B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e75c01"/>
                </a:solidFill>
                <a:latin typeface="Calibri"/>
              </a:rPr>
              <a:t>Empresa CR9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500120"/>
            <a:ext cx="840096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A empresa CR9 tem como perspectivas de futuro abrir uma nova sucursal na Austrália, pois temos vindo a receber muitas propostas de grandes empresas querendo fazer parceria com os nossos produto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Marcador de Posição da Data 3"/>
          <p:cNvSpPr/>
          <p:nvPr/>
        </p:nvSpPr>
        <p:spPr>
          <a:xfrm>
            <a:off x="428760" y="0"/>
            <a:ext cx="8143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Marcador de Posição do Rodapé 4"/>
          <p:cNvSpPr/>
          <p:nvPr/>
        </p:nvSpPr>
        <p:spPr>
          <a:xfrm>
            <a:off x="42876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709E-31EA-4127-B457-B4B143C6F496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e75c01"/>
                </a:solidFill>
                <a:latin typeface="Calibri"/>
              </a:rPr>
              <a:t>Conclusão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Depois de concluído este trabalho, tomamos conhecimento de como se executa um balanço social pela sua planificação e informação dando a conhecer a sua funcionalidade através de conceitos e objectivos, requesitos, estrutura e ainda a  recolha de dad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Marcador de Posição da Data 3"/>
          <p:cNvSpPr/>
          <p:nvPr/>
        </p:nvSpPr>
        <p:spPr>
          <a:xfrm>
            <a:off x="428760" y="0"/>
            <a:ext cx="8143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Marcador de Posição do Rodapé 4"/>
          <p:cNvSpPr/>
          <p:nvPr/>
        </p:nvSpPr>
        <p:spPr>
          <a:xfrm>
            <a:off x="42876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C75D-41A9-4C07-BBAF-25B4EA33C566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08:38:26Z</dcterms:created>
  <dc:creator>PC</dc:creator>
  <dc:description/>
  <dc:language>en-US</dc:language>
  <cp:lastModifiedBy>PC</cp:lastModifiedBy>
  <dcterms:modified xsi:type="dcterms:W3CDTF">2010-05-24T11:33:12Z</dcterms:modified>
  <cp:revision>13</cp:revision>
  <dc:subject/>
  <dc:title>Diapositivo 1</dc:title>
</cp:coreProperties>
</file>