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5BBE-AE84-4F77-8EBB-C852B60BF5E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8AD-E47B-46AE-B64D-41227FB909A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927-EE43-42BD-AF1A-3C10E15F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E390-F616-4CBA-A620-6B2C31A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A8063-2941-4BDE-AC8C-1E1228FA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7C61-16F4-4063-9743-077CC5C3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F116-41AF-4EC9-823B-55EDEF40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F3D60-12A4-4AFB-ABE7-82D28EC0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BB247-4D7A-4971-8440-74A678A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D55D2-37C4-4993-8678-E6DA06CD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C0D18-571E-401B-A905-69034B9A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B44B9-FC99-4CF6-B0B8-80AA5B1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B52F3-EABF-4B8C-A910-B16B5E0C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38486-EF8E-4649-82EA-F96E1E8C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5ED-B942-4B9A-BEC0-8E0DFA77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48F9-538E-4F9B-9887-472E2CC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E8678-D2FA-4AED-9E3B-610FC368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78A93-B50B-444D-BF10-9CF1419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2BDC5-AA5D-4B08-A65C-619CC89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EE831-2783-4108-BFC4-F0EC2BD5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944C2-DDA3-4CBA-83CC-F60823E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33B55-7355-4B7F-8ABB-0686FB5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369B0-DE13-4222-9A7C-9AA77BD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96902-962F-43AF-93A5-E14E2DC3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3BE27-78C1-4F5B-88A7-F4A7584B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387-887C-4B1D-A55A-BB7C25FF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E19B8-99A7-4FCE-A733-2F5870CA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57A1C-8AA9-44E6-8148-D504F40B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EE153-673E-4035-9EF1-508D3E98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9D750-2725-49AB-BDCF-ECFF3C05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C9A3-7160-4A01-82FA-4EDFDC6B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94AAF-579B-4202-B438-52D344B2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6B9F4-6FE6-4FF4-8CC3-ADF33133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E6EE4-0291-421D-A416-FF08D85F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57572-CF25-44DE-A6FF-E26EFBE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1E69D-3EEC-4B4B-BB95-17C75FF1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051-AF2B-4654-80D1-172AEABE0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8B8F-ED5F-4217-863A-86ADD5F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38992-2405-4AAB-A09F-B50A3125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B9444-8AD8-47A5-8CFC-AA826B53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97EA9-83DB-4B82-81BE-BEFAF958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F1C53-9501-45BE-94C2-39AFEE36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504E5-2C73-46F7-8468-1D52BFD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75D79-61B7-4A94-89BA-0CAF8219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30CC1-DD66-4B5A-8558-2D1901A9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5D95D-D50A-4636-BB4F-A302CFF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A31DA-0303-4368-BF22-3CDDACF1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B57-6720-4AAE-B577-67DB1C55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816BD-B2E2-4EF6-9155-9142A09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6FB0B-407E-4E07-80C7-ECF3436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B37F4-3916-4AD7-8575-3FC38C0A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C3231-3730-4AA8-A316-58485530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A0C2A-F032-4941-92EB-64D46844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A723-6A04-4ED1-ABF1-C5D4BE9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2BC1-F0A2-4FCA-A8A9-0FAA5652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779-0D35-4C8B-B775-D3EDB9A0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0959-7DAC-4417-90BC-C483D9A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DF84-034C-4B27-9581-EA40C626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7D9-93E2-4413-B3F9-8510169F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C8CD-AC83-482D-B4A0-D23F880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516B-CF79-465D-816A-21F028B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63F5-6320-45A8-927B-B340A30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1865-BAF2-4CF3-94B4-0D81D82F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0306-1F18-48DE-AA7F-F7A8C7E3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9D77-BA1A-4495-8039-64D8A0CE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8176-6540-4AB5-AB25-41B335D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9E6A-03D0-42BD-8E5D-9A9B515D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0E92-209D-456B-8C6C-4307D798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6B4EC-CFE9-4E34-AE37-305FCE96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C38-B83F-415C-BC1F-865896E7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EC9B-2172-4223-9D44-C72FDBE1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96AC-9231-48DB-AD1C-B1C1F2B9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31AF-9BD0-4733-856A-AD56ACE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D7B86-2532-4AED-9122-E9D065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C8B0-0D48-4B53-8080-8D3E0583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CAC7-8D09-44C8-AF64-5281A3F3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083BB-9495-4625-BE49-D0F1AD9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E5B28-E2E2-40F8-A56F-5AAB8E90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42600-1A20-4542-813C-A919F7B5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8412-1A51-41A2-B4F7-E9D652E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D79-5643-44E0-A87F-7B60AABD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A80C-4304-4FF0-B317-7E60EB3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3FA0B-4209-4834-9F3C-EBE66001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5F3BB-1918-4126-8C9B-B7E73147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BFE7B-94CF-41C2-A037-EB44174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590C-AE65-41A9-B514-D16ADE99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110A-5DF8-4AF4-980A-7B08B6F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59D0-0399-4366-B0B6-780A733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D0D32-64C1-4A06-9042-2C0B33FB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442D2-1D35-40C9-AC47-FA545CAE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2193-6272-46FD-A539-E0D41444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C30-91BA-4441-BF0E-B235D8F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4DE8-62C4-47EC-A3C9-92439E1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74F36-6FFF-443F-A579-9CB02D8E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675E-7C71-4A57-B2BF-0391B113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F70AB-E576-4F5C-8184-FB2325E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9B51-1C98-41C1-A89D-09EC41D0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27095-C9BF-4294-AD34-88F59BA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323A8-27B8-4229-A78B-CD02B32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477C-5398-4C53-9B5E-8EE9123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E71F-3881-4487-80D5-11841F96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C985-4605-4823-96F3-FF814007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1DE-1CFB-4C2B-8C01-4F5A7BF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D973-102C-4860-998D-8369F7FB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515A8-35A2-43CF-B5A9-EA39F7C2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AB0DA-DC8F-4010-A228-A03F57D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B8F4-2234-4A4F-A33B-6A07F91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CB7A-708D-4683-AE26-E8BB87AA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F89E1-D77E-4BD3-B1A8-C8B44668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7E09C-587D-4554-9FD6-8C0749C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8CB18-F12B-48A6-9EFC-1AAE0EA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F28A6-8B01-42D8-B434-4B030B4C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E750C-D6CE-4783-BFA2-DDBEC68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969-1772-41DF-BE4F-F3D34E0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1E649-1BD9-4476-B3DC-61E3B899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7444A-96E8-444C-BCB8-EBEDA0CB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8237-E64B-42F3-B276-B2FE5E65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82971-F9E4-43FF-8AE4-FF84E2FF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950C9-F7A3-42F2-878A-840AEFBD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AC09D-129C-4460-A55E-C4645508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56EC3-896F-4693-A4AF-0CB0828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103CF-4556-40D7-A1C9-B10273E2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6B6B1-8CD0-49AA-BFB9-A69A7215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C1E8F-F983-4C72-A709-4AE60435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3D1-9F6C-48E0-B0D3-CD5BE188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F7781-F1EA-4914-98E2-D780B3E7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3D0C2-DCFA-4DC3-B21A-EDA59C3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FB3EE-A568-471D-9BCB-44D28EA1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A291-F4B1-4F44-A0C3-0EDCC307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13266-99F8-402E-B856-4AAB1E25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4E2DD-AA0E-4610-A85A-352B331C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55F5-EADB-452A-B11E-25FFBB0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05B09-2D03-4F0E-8923-9A5C632B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A3D28-CD1C-4625-90F3-B88EC7B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6D83F-5FAD-4236-AE6B-B7113C8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137-E89F-4561-B9AB-3F8DA97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A63C-A644-44EB-8E8C-178EF5CF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550D5-9085-4582-96DE-1A9C92F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1D314-BFD4-4065-8D96-D0BA9E8C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99D8E-F63B-4291-B2CC-DD0415A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C0A26-9D00-4615-9D5F-D86E3593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BD2D0-F52D-4BD9-9C60-9EF2E5E7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4C767-7613-40E6-BF89-E12120E9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65A1-C2C9-43CD-8AB3-0DB1D19D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92C92-E7BF-472C-B600-86D9B00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2B146-D744-4C74-99F3-81D2BA89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B40F-CDCD-4629-87FA-A9EE8F6769E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0A41-8422-43DD-AC52-8CFAC7ABE0E1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19F3-F047-44C2-A951-439F0F0C2997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A0EC-6B92-4A3D-AC45-8ACE8EF961BF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064-75B6-4F6F-A925-1EA00EFE2CE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6481-7A29-4B93-BAE4-21D7EE07321F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042-C5F3-4915-81F4-BB3F7ACCC631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EC9F-0095-4BF3-9CE6-7DF16C57DF2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3F0-1731-460B-9934-24CDD6E507D3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2E4-57AA-45B8-B1BC-20AD8A0BB24B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886C-2791-458A-A606-38B8560C3BC4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8B0-F29E-4479-807C-796492996716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Introduç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oi-nos proposto a  realização de um trabalho no módulo 679 que consiste em elaborar o balanç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m a criação de uma empresa de lingerie onde  aplicamos os conhecimentos adquir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8AC-85A3-4301-9F0D-8EC446DCAAD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undada em 06/01/2008 com o capital social de 15.000.000€, com a finalidade de produzir e exportar lingerie / fatos de banho – uni sexo, com a intenção de se sentir mais sedutor(a) e ter uma aparência na época de Verão deslumbr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DF9-2653-4C17-BE2D-F88E4153AE5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0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faz parceria com o famoso Cristiano Ronaldo daí a nossa marca ter as iniciais de CR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Vamos promover a nossa campanha de lingiere/ fatos de banho a nível mundial, criando novos modelos, feitios, cores e padr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D94A-3B36-4238-AB1D-AB69BD07D9E6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28760" y="4287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A empresa tem 360 funcionários repartidos por várias secções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dministrativos-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ntabilidade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Secretárias -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stilista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stureiras-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cursos humano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Manequins-10 M/2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ublicidade-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428720" y="500040"/>
            <a:ext cx="442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feitorio-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Limpeza-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ssistência médica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conselhamento jurídico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Trabalhadores estudantes-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restação de serviços -16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(manutenção, condutores, embaladores, stocks, entre outros serviç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No total dos 360 funcionários estão 116 efectiv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31C8-446E-499F-A544-1FA80C96D0C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2" name="Marcador de Posição da Data 4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Posição do Número do Diapositivo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AE42-BFED-488A-8E3D-CDB06340F309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Marcador de Posição de Conteúdo 9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CR9 tem sucursais em Paris, Londres, New Iorque, Canada, Bélgica, Brasil, Cuba e Madei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7A5E-D23F-4C34-A4A0-AA0242986E4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0012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A empresa CR9 tem como perspectivas de futuro abrir uma nova sucursal na Austrália, pois temos vindo a receber muitas propostas de grandes empresas querendo fazer parceria com os nossos produ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D724-1ABF-46F1-8902-25D135BCE0D0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Conclus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epois de concluído este trabalho, tomamos conhecimento de como se executa um balanço social pela sua planificação e informação dando a conhecer a sua funcionalidade através de conceitos e objectivos, requesitos, estrutura e ainda a  recolha de d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0308-2700-42FC-A65A-C6E3BA645FBD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38:26Z</dcterms:created>
  <dc:creator>PC</dc:creator>
  <dc:description/>
  <dc:language>en-US</dc:language>
  <cp:lastModifiedBy>PC</cp:lastModifiedBy>
  <dcterms:modified xsi:type="dcterms:W3CDTF">2010-05-24T11:33:12Z</dcterms:modified>
  <cp:revision>13</cp:revision>
  <dc:subject/>
  <dc:title>Diapositivo 1</dc:title>
</cp:coreProperties>
</file>