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758A-1C3E-4AA3-8AF0-17C9210DBB71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4E3B-2C9B-44BC-8077-CA790DCC9725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096-9AD7-4A08-981C-61972F47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263-B4ED-4439-A191-94217333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7CE69-4CD8-435A-AD8A-2FA2A24D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4EC6A-616C-42F7-AFB7-6F7ECC32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AFE6C-ADD2-476D-A31C-911623BA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3D091-994E-4A29-97C7-5821A0C9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EFC73-4EEB-4B4D-8424-D4E2BD26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551A5-4B3C-42BA-85BE-131A62C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5083B-0246-42D5-9352-B9663FE5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881FF-2626-4DEC-8703-11E2B685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D4595-F4CB-4A44-8AF0-5BBE862F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3B61B-6C8F-48D1-B3A2-29BB9F0A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41B-233B-440E-9752-3F6207F9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28629-D689-4136-BFC5-2AEA6122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51339-50B6-4B5A-8C46-D6312DEE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C71A2-D86B-4D56-B78C-672BDD0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53545-ABED-4904-847B-BE8C580E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28A13-594D-4CD5-846F-69617974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2F46A-1184-4971-8854-D3769313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CE388-EC1D-4073-B1D3-A1BB0789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225DB-9201-4026-9640-00458661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6DD90-37BE-42C7-AFBD-D1B3A9D2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D20BE-D0D3-4A67-B555-1B694189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6CF-77E2-4667-B2CE-63D1093E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949E7-C8CB-43EF-BC48-29B73793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D4E72-BE45-4E69-A0D9-1B8C4043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BDE2-CF98-4549-8711-3A3C66D1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CCAA5-034C-4BE2-8C30-00876991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9709A-2E74-40EF-84BE-17ED6B12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E155A-5911-4EB7-B254-6C4D5635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6D07C-7B68-4CA9-8F41-C3793C9C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DB65B-172D-4207-BFD6-92684F4E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FD2ED-72E9-4959-BFFB-D8C74E2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ACE26-D7D9-437E-9DD4-301F213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EEFD-CD4F-4FF7-9472-F60D814F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0C2B9-2A11-4C45-A86C-AFBAF25A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A56D0-D709-4204-BD82-F6D53812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2FD37-A6EE-47A5-BDBA-CB672848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6A860D-465A-4169-BD9C-7E546758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5195D-CA46-43BB-A567-302584DB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DC113-F04B-422E-968D-35C78EC8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CB01C-015F-48BC-A460-03E2A583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BFE8D-740E-463F-A884-26BC9AFF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9A8B0-A34B-4317-9444-AAD5B376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9BF68-65B2-4484-8CBE-50230FF0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A0BB-D8BD-4437-AFDB-85DDAD0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1BEB4-5F4E-4077-97F5-5240924C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C3DBD-6E1D-4FEE-9D60-7510239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44497-135F-442A-AE31-10A2299E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9FBA7-274C-4283-9894-0FE48122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30389-B567-44F4-B60D-2C9D0C41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25D2-61D7-43E4-9E08-F75B683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66B4-E26B-4C60-B760-69033EBB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012C-B484-4B87-AA49-4173FD30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75BA-124E-41F3-BF42-EA46A50F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F4E0-1BC4-4163-891A-734D704F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123-C9CF-40DB-86BD-6DA44FDC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7026-267E-4462-8C13-567F7823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6630-D495-4B7F-9708-87EBCF3A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C061-C2C5-4214-960A-4FEDD5D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3177-A8FC-47BD-9FBC-D2FA0F4E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F121-29FD-4A3A-91B6-1CA6CC0F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5F88-67FB-4125-BEAE-B55EBEE8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D2851-B0C8-4640-8126-24887BD2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FF54-918E-4C13-9355-54CF8AE4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F8CF-627D-4875-ADD0-8600F1CE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8709A-821A-48EF-AECF-3E2C456D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0E4-126E-4E94-999A-3542A92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42FC1-C163-46E3-85AB-05CEFF62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A7F7-C229-4316-BB1F-A93D8B83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23F1-DC0F-4EF8-8A7D-F1EB855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41C6-4B57-4F73-8D41-99F70FC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B75CA-8D3D-47EE-B756-D477E981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B6815-C074-4C7D-9459-98A15986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AA37-E0CF-4FA1-9B5E-0DBDB6D4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0724-D7D4-4C1F-BD84-333595C1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3895B-04C5-4BA2-8F1B-8CEBE2F9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BE3C8-345A-4806-8234-7009736B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D15-0700-45BF-A9A6-92216C99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57E9-066A-44A2-9D9E-E9D4C821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A6A7-5209-4EE7-A5AA-167C1CE2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BF35B-0670-4B3E-A702-6F4C91E8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7C8F9-0792-4940-948E-AA7A158B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765D3-3175-4A4F-8175-97E42534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14291-71A5-4D6C-8B85-708C1D41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836B-3FA2-4438-9646-CFF6763C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52DE-2710-4257-8756-78C8B571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4ED5-A300-4212-8C95-2CC2547C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4E34F-26E7-4E2D-924F-39DD2FFE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9CB-C241-4F0F-9250-4CFA657F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9E0F5-1001-44F7-A172-D8E74F07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F0050-2901-4CA1-9E76-78FB2459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B3081-57A4-4ABA-ACD1-B55D46E6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0EE80-0DFC-43BA-90CD-CC197A6A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F6550-8836-4EB4-A4BB-5D43BF7E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642AA-4FDA-4967-B757-DF295121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7A1BC-B4A3-4823-A8E8-31E766C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A5A81-A7B5-42A2-A6C4-5EF99B6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5A5F-23A9-4988-B5CD-5C343A26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CA6E-B237-41D3-84D8-F0E75F04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391-C873-45DB-87BE-E40CD1D7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6ABC7-C2E8-4781-9690-4A7D9E0C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1A199-01DC-4F01-876F-0C15914B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577F3-8A53-4596-A77D-0CAD3F59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70F04-9C99-478E-AEEA-B6F14774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612C-2210-45A9-8040-2EE94050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BF96C-518E-46D3-98D8-51F07E7F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48778-2796-4A91-8698-866FB800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4BF7D-6ACF-4259-BC6B-4D0ED0E9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9F98-7125-43C8-AD66-3968163D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D898F-D894-40E8-AD8B-0166D48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888-6D3B-46D1-97C0-F4B69304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09157-1BCB-43DA-A4BC-3E6858B8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48C3F-C5E6-4C5B-A395-C4A5DE88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D1AA-F2C8-48C6-A72D-BF952562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F3DB4-6CA4-4405-AFCA-5DF7731F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995FB-691C-4FDB-B807-03E0708F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F1F54-523E-4CDE-8204-46D2561D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9B18-C28D-47FB-BBEC-41FBAE59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B394C-7E2E-47F7-8CB0-F7B1FDE1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1409-E822-42D6-A749-4E3FE009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21276-8C48-49E8-9C49-E3D1D542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121-489A-477C-A6DB-F84623E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8FD47-7621-4EC9-835E-D263147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A6B8D-C9BB-459D-8120-A1214E2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1733-3513-4F44-ACAC-76F60A53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247FA-918B-4EF6-8B5E-2EDB327F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098A-1A5A-441A-A596-C18D2502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BE8B5-4193-4AAB-9365-6B6EC6B8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5FD4C-BD08-436E-B3C9-FF2FA4A7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03EBD-03D0-4424-876A-8680229F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63FFC-8D57-4A1F-A646-86E61ED7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3FE3E-2DB6-4799-89E1-5C115D4F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563-CA7F-4E13-ADE8-8EA29F6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0004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1B3CD-D0A4-4461-9F97-9B8E2D6B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4AB64-8260-4FCE-A64F-1EC43A56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CC67-FE26-47D4-BE95-7C00A51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681BE-1476-4F69-A179-54AD1FD9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9C135-D8C2-466E-AE2D-2F9D1BA4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44981-230B-496E-9EE6-268383F6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26C27-8105-49B0-816C-F6A2D7DF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87AB1-0B6E-4366-BADF-01BA3D75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0747F-5B2C-4AC1-828C-3D457A40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A7FD3-23B7-4147-B55D-07ADB8E6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517E-06F7-4D03-AF70-DA82307BA9FE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782E-9767-49B2-BB94-5EDB8DF250AA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6657-698E-421E-ACFD-FAE56045759E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B519-9787-47A0-97BC-418CCF0B1EE9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3773-C9EF-4293-A416-2F082B920E4A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8ED2-4AC7-4CB0-B3C2-6EACB72466A9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F6AF-BA9B-4E75-86F8-0EC71E466AE8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A9D1-1B00-4E39-B12A-56F0A374CBD0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AE68-A00F-44B3-ACB4-AECA6708BB18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F09F-3A2E-4A08-BBA9-3A71B480823C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82E2-6C3A-44E7-AD01-45A22B3108FA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Imagem 6" descr="biquinis-variados-32-206.jpg"/>
          <p:cNvPicPr/>
          <p:nvPr/>
        </p:nvPicPr>
        <p:blipFill>
          <a:blip r:embed="rId3"/>
          <a:stretch/>
        </p:blipFill>
        <p:spPr>
          <a:xfrm>
            <a:off x="480960" y="1481040"/>
            <a:ext cx="8394840" cy="46087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75c01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28760" y="-360"/>
            <a:ext cx="81439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42840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0093-4B74-4699-9AAF-01007FB2EC9E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Introdução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oi-nos proposto a  realização de um trabalho no módulo 679 que consiste em elaborar o balanço soc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Com a criação de uma empresa de lingerie onde  aplicamos os conhecimentos adquiri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F9C7-8D83-473E-8F72-996E55C55B03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undada em 06/01/2008 com o capital social de 15.000.000€, com a finalidade de produzir e exportar lingerie / fatos de banho – uni sexo, com a intenção de se sentir mais sedutor(a) e ter uma aparência na época de Verão deslumbran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Marcador de Posição do Rodapé 5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Marcador de Posição do Número do Diapositivo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F33D-64E7-4D3D-A769-98ABD3177A1C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0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Esta empresa faz parceria com o famoso Cristiano Ronaldo daí a nossa marca ter as iniciais de CR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Vamos promover a nossa campanha de lingiere/ fatos de banho a nível mundial, criando novos modelos, feitios, cores e padrõ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0BC0-D0E1-483B-A24C-387CEEB39DBB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28760" y="42876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A empresa tem 360 funcionários repartidos por várias secções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dministrativos-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Contabilidade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Secretárias -1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Estilistas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Costureiras-6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Recursos humanos-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Manequins-10 M/20 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ublicidade-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428720" y="500040"/>
            <a:ext cx="44290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Refeitorio-1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Limpeza-1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ssistência médica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Aconselhamento jurídico-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Trabalhadores estudantes-2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restação de serviços -16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(manutenção, condutores, embaladores, stocks, entre outros serviç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1" i="1" lang="pt-PT" sz="2600" spc="-1" strike="noStrike" u="sng">
                <a:solidFill>
                  <a:srgbClr val="000000"/>
                </a:solidFill>
                <a:uFillTx/>
                <a:latin typeface="Calibri"/>
              </a:rPr>
              <a:t>No total dos 360 funcionários estão 116 efectiv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3AE4-1270-47C5-B6F8-E8B1F4D26D62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2" name="Marcador de Posição da Data 4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Marcador de Posição do Rodapé 5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Marcador de Posição do Número do Diapositivo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AB40-637A-406B-8097-337B5A693995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Marcador de Posição de Conteúdo 9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8358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Esta empresa CR9 tem sucursais em Paris, Londres, New Iorque, Canada, Bélgica, Brasil, Cuba e Madei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B76E-9E0D-4686-80A8-0110E561640A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Empresa CR9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50012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A empresa CR9 tem como perspectivas de futuro abrir uma nova sucursal na Austrália, pois temos vindo a receber muitas propostas de grandes empresas querendo fazer parceria com os nossos produ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E492-2A32-4AA7-A036-0C927CFEE372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e75c01"/>
                </a:solidFill>
                <a:latin typeface="Calibri"/>
              </a:rPr>
              <a:t>Conclusão</a:t>
            </a:r>
            <a:endParaRPr b="1" lang="en-US" sz="4400" spc="-1" strike="noStrike">
              <a:solidFill>
                <a:srgbClr val="e75c01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epois de concluído este trabalho, tomamos conhecimento de como se executa um balanço social pela sua planificação e informação dando a conhecer a sua funcionalidade através de conceitos e objectivos, requesitos, estrutura e ainda a  recolha de d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Marcador de Posição da Data 3"/>
          <p:cNvSpPr/>
          <p:nvPr/>
        </p:nvSpPr>
        <p:spPr>
          <a:xfrm>
            <a:off x="428760" y="0"/>
            <a:ext cx="8143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Calibri"/>
              </a:rPr>
              <a:t>Curso Técnico Administ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Marcador de Posição do Rodapé 4"/>
          <p:cNvSpPr/>
          <p:nvPr/>
        </p:nvSpPr>
        <p:spPr>
          <a:xfrm>
            <a:off x="428760" y="635652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898989"/>
                </a:solidFill>
                <a:latin typeface="Calibri"/>
              </a:rPr>
              <a:t>Trabalho Elaborado: Ana Costa, Célia Sampaio,Jesus Alves, Teresa Fernan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Marcador de Posição do Número do Diapositivo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84C7-C102-4C9C-961D-91A441C07814}" type="slidenum">
              <a:rPr b="1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38:26Z</dcterms:created>
  <dc:creator>PC</dc:creator>
  <dc:description/>
  <dc:language>en-US</dc:language>
  <cp:lastModifiedBy>PC</cp:lastModifiedBy>
  <dcterms:modified xsi:type="dcterms:W3CDTF">2010-05-24T11:33:12Z</dcterms:modified>
  <cp:revision>13</cp:revision>
  <dc:subject/>
  <dc:title>Diapositivo 1</dc:title>
</cp:coreProperties>
</file>