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564-5BCA-4D59-A7D6-09448E3EE14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B6F2-CD83-41D3-ADC5-453A984362A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9FB-1676-4F15-88CA-C54FCF25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1A3-742D-4D1F-83EB-C287A3F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E5ED-6AE6-497F-AA28-6B27F9B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31C0D-92A5-4FF3-B04E-85CD857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009C3-0E09-467E-A568-3C62390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5FC7-458C-4564-B28D-262A4E5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98ECC-E4A1-4802-BDD4-25D28C2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45EE9-2886-47F1-AB53-92BCF56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D2774-3932-4D18-9993-54BEB8F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6764-9C04-4EEF-90C3-D6814BC8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30C59-7647-4F6E-B438-38F58B54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55F2F-B9F6-4A75-ADF8-2D3CAC7F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C00-DA81-41DB-8507-80045B4F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7960D-FD14-477E-9228-2881B55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BC7EB-C61D-4227-9516-B6AE7EC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AD5F0-25B5-4297-A977-0E46A360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0714-0EB9-44BF-BA45-39A8432F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3E9BD-D9D2-4080-BA4B-81DB722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6CC5-B772-4A30-9A63-0EF6004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7F0EC-853A-4A31-9B51-2BF78743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6A8A-E4C9-42F1-AD4D-2109752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965B8-593C-41C6-94A6-FD9D059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99E63-A474-498B-85F0-121150F3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3C6-8E7F-4093-8751-51A4E0C4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421CB-987A-4ED6-8144-C9BAD00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BA3D-E265-427A-A545-C6E223E5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1C85-1A56-4409-AD79-92B8045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CA317-895F-4B1A-AD83-3BE14C3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322E-2474-439D-8E03-BC2336AC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C873-AEA7-4B9D-9A66-D1623563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67835-E9C5-444D-87E3-D15BA829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52F70-7036-4D33-8C44-00968F3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81C9C-BDF6-466A-8D4B-A4F26FA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D243-9129-442A-9C76-FABBDAF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7E8B-2E16-4D1C-9B39-7B666799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726E0-30C1-4464-8394-1AE621A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2E5E-82AE-41FC-ABBF-9C1D9432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101A-830E-494C-8507-52E57B38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7EE98-7E6C-4DE4-9559-A5102896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7135D-048F-480A-BB9E-0D7D988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611C3-AF53-4000-9E9E-443DC06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2A4C5-EB18-418A-9BA8-FAA62F50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E1659-2834-4581-9FDE-CFE646B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C4BC0-15F7-4090-8BBE-E312F9F8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8890C-E621-4E79-B809-8C27E87D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03CC-A1E7-43C8-8314-5DB42CB8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3ED1-88B7-4D66-801B-C113E10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A392E-4B49-4E47-8B6A-F33CE15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9AE34-DAD6-4CFF-911D-79508765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806CD-38A0-4C88-92E5-698F6488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4D7C4-849C-4965-BAAC-A83B8A4D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B329-B89E-4B67-B2C3-79A1839F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6C7C-8B3D-422E-8678-B242261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9722-A2F9-44A3-847B-8A939C57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F019-3A8D-4F78-B014-A352F86F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0E0A-F21F-493E-AD53-A7EF394D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545-08DD-4457-8698-AF8106E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1CE4-3EFE-48C1-925B-3E707DA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B74B-764E-490C-9C23-C1837AE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27AA-E07C-404B-BCD8-2E3526F5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855-A6CE-4EC5-B150-A6DD28C1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06B-C254-4F83-AFBA-EC24E063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71F6-5958-4E15-B140-542C540E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0A52-B921-4A7B-9B2C-681ECC4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1B7C-5235-4BD2-AEB0-BB880EA7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CE78-206A-4F7D-AE0D-EA6D6F3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65F2-A869-48BA-AEB1-092C2E8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3AA-77AB-4D21-BD91-9F0E7B5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A0DA-C0D2-47DC-AA90-EF82D9D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288E-A7F3-4037-867E-09505E2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EEA6-4010-44B9-9F37-CA3E796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EFE2-698F-487A-A790-5BD86C3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D080D-3B2B-445D-A504-53144CA5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7A92-9DB0-489A-B838-08F8A189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D6FE-DDCB-4AC6-B29E-A1B206E2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A87D-F0C2-404F-978D-3F38B48F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AD84-6C63-42D7-B7E2-9A839CFA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0554-C8FD-4826-B160-9B3165F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62D-A21D-4B18-9CBB-600F43F0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32DD-8361-4F73-8D3D-59AE63D3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378E-60C5-427A-9B95-BE32E23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C7EA-B89A-4A7F-B6A3-C93BDE4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1D66-7E44-4098-9E1A-BD43EA6E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41DF-2C16-4247-9C5A-07C8D3F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D800-9A71-4A00-B8BA-F94CC93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DF98-856B-4106-8307-5D979324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ACFBF-D22C-43EC-860A-C30DFC53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FAFC-7603-4E87-91E6-A1A7372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AC28-8B8C-404A-85DE-61197353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C8A-EB58-4760-BEEA-7271BCDE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C184-550B-4A7B-89DF-A59B94F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8DA9-86E7-4FC6-A105-70616D4A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3E17-8F2B-481B-9EDD-B4CD8CB2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6879-7471-4187-BD0C-4D8E23ED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05E4-8EA4-4F85-AAAE-3177EDF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0E89-039D-4D7F-920F-182AEDA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686FE-0FFE-4275-A440-4CBC485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05EE0-3A37-481B-83A7-FB797DD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BC9E-D660-4EE4-9F90-74F4F278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849E-7764-4903-A13D-324FD6F9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B66-7F92-4947-A52B-07DAC6E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1070-E23D-4891-A151-4DB70A85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CD7A5-F7FB-4047-BF20-28DA830E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9561-BBCB-43C4-B266-02D54B1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672B-2B76-4883-A091-D3D5030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B2B9-2E02-4B39-B3D2-774ACEF9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E6A0D-ACB2-4E4E-96AB-E9A8014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C006-C850-407A-9900-2F96B91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87DE-BA0C-4005-A456-698F976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25F5B-6FE7-4E87-8755-AF034B8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1262A-02C9-496C-8CFA-96F8FB0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D1F-48BC-44EE-8C70-463CE99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C8A74-4DFE-4844-988F-CA6745C8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FCA51-5B48-480E-917F-86E7C25E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F32A-C817-4C03-BD87-D02D1EC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9596-3324-44E3-8971-5140E197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FA0F2-B2BA-414E-98C8-1A15612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C5E1-86E2-4E0C-8B05-3C7CFEEF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414B-FDB1-4EFA-A146-C5322F8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56D8-EF79-462E-91DC-965AAA75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8987-3ABE-4342-BBB2-3800D9A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333D-2FF0-4E59-B751-0E06073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5C0-1760-417C-BB26-2D107623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81B6-C6DF-475F-B8F0-7BA9DA4D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2D26-7338-4239-922D-8476C2A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C467-5547-4081-8127-EAB5429A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7268-4935-46F4-8290-2A176AA4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3780-0057-4228-9844-AB9DBEEC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48814-8FFA-4632-8CA4-730346BC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92161-D33B-44F1-941E-79FAC277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EFD8-263A-43E6-8332-823B402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C451-BF87-43F0-BD7F-753EDE09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698E-9159-4B65-9237-8A386CB2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343-D781-4ECF-980F-10EB3880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F1E10-5727-4341-B5E6-3DE8909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A213-200A-4F20-B536-0BE6BA6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844A-6747-4022-9363-73A764C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8BFB2-2759-41DA-8EBE-DE3FDC8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02C8-8A37-4677-8E85-BF46900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ACC64-CF72-444D-9CEF-82286B02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397D-65C0-427C-8691-29DDEA46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D8F3-B72D-497A-85AD-00D07748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8EA2-FFA3-493E-B63C-3A57C811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30F2C-523D-4B1F-BBA1-0A97C6B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855-C945-458A-98AA-75AADB17A81D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70A6-2973-4D21-817B-4A50B0D9E9E0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8EA8-30C0-4435-AF21-10FD15B2A3D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8EE-B00A-471B-914C-441739B1333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176-9530-402E-B988-BAD7989059BD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817-349C-4B28-A820-1F033E733F07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5CF-2774-4C24-B7C0-70876458F974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D99C-670E-430A-9CF3-C85195D78D02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26C9-0B3A-4DDB-A832-EFA6F980C23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27F-9E52-4CBE-BD7C-D3E67EEE0A4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43BA-AA53-4A7B-9078-E3EE043575E2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791C-0D41-4D2A-99A1-05EDC75BBFB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Introduç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oi-nos proposto a  realização de um trabalho no módulo 679 que consiste em elaborar o balanç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m a criação de uma empresa de lingerie onde  aplicamos os conhecimentos adquir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0F02-CD07-488F-BE8A-7852FC338A73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undada em 06/01/2008 com o capital social de 15.000.000€, com a finalidade de produzir e exportar lingerie / fatos de banho – uni sexo, com a intenção de se sentir mais sedutor(a) e ter uma aparência na época de Verão deslumbr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5C32-1598-4F15-95E4-234799ADD9A1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0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faz parceria com o famoso Cristiano Ronaldo daí a nossa marca ter as iniciais de CR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Vamos promover a nossa campanha de lingiere/ fatos de banho a nível mundial, criando novos modelos, feitios, cores e padr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53C-576C-478D-BB98-C5E0A5618F4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28760" y="4287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A empresa tem 360 funcionários repartidos por várias secções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dministrativos-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ntabilidade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Secretárias -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stilista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stureiras-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cursos humano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Manequins-10 M/2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ublicidade-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428720" y="500040"/>
            <a:ext cx="442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feitorio-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Limpeza-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ssistência médica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conselhamento jurídico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Trabalhadores estudantes-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restação de serviços -16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(manutenção, condutores, embaladores, stocks, entre outros serviç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No total dos 360 funcionários estão 116 efectiv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958-8CFE-4A4F-B335-E6AC135EFAC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2" name="Marcador de Posição da Data 4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Posição do Número do Diapositivo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E1C-94A9-4C75-975A-EB777B166DFF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Marcador de Posição de Conteúdo 9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CR9 tem sucursais em Paris, Londres, New Iorque, Canada, Bélgica, Brasil, Cuba e Madei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1C3-FA1F-449C-8015-D7484DB12C9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0012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A empresa CR9 tem como perspectivas de futuro abrir uma nova sucursal na Austrália, pois temos vindo a receber muitas propostas de grandes empresas querendo fazer parceria com os nossos produ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F2BB-9995-4856-ACF9-E53C55F2F189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Conclus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epois de concluído este trabalho, tomamos conhecimento de como se executa um balanço social pela sua planificação e informação dando a conhecer a sua funcionalidade através de conceitos e objectivos, requesitos, estrutura e ainda a  recolha de d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E8C-1617-4FF9-AC73-0D6A579690D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38:26Z</dcterms:created>
  <dc:creator>PC</dc:creator>
  <dc:description/>
  <dc:language>en-US</dc:language>
  <cp:lastModifiedBy>PC</cp:lastModifiedBy>
  <dcterms:modified xsi:type="dcterms:W3CDTF">2010-05-24T11:33:12Z</dcterms:modified>
  <cp:revision>13</cp:revision>
  <dc:subject/>
  <dc:title>Diapositivo 1</dc:title>
</cp:coreProperties>
</file>